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8361-6AE8-4603-A709-9C007773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FC81-F50E-4447-98E0-BF5C4DEA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70EEE-5BEA-49A6-8865-71587045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554C0-46BE-4ECE-ABC3-991EEF67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C16B-F56C-4729-8CB2-E9AB13B1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302F-2250-49C5-9080-6FA1BABB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9353-0151-413C-AB28-929899F5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F9A9-369A-4F28-911D-A769A26A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C006-E385-4997-AAE7-024FE75D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3C4B-9DBB-4472-903E-8AFC5192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2076-DD9B-4292-93C3-815C9051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21FE-AD5F-4C16-85FE-8A72392A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1EE5-2CEF-4E4A-A535-D6DF4F89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E385-E994-47C4-841B-D8D212F3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E3DA-DA42-4861-BC41-6A3138D2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5F44-3433-400B-ADCB-32C53FFA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D4D8-77FD-4832-A5C2-BAA64040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1ADB8-AA7D-46F1-8CD9-F41E4F64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61B71-A1C9-47CF-BB18-66927EDC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08B72-F921-41B6-A627-F824F27F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59C2-CB04-4F5D-BA67-CDAF408D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097D8-0192-44B7-9134-CC038686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AA2E-EFD2-421F-AD24-07A6731C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3CCA1-89B7-472B-B3D8-3229D7B3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D95A9-1032-49ED-8C9F-A907475A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F439A-1BE3-44F2-A8C6-BBF62738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C65E9-CE19-4CCB-9CB0-6344716E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69F07-FAFB-4FDB-8175-0D9A3196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41E4D-EC15-45CD-A285-BF81D6E7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F2FF9-FC00-4A7F-8A0C-12D8F852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F43B2-9AFC-4380-BD29-C51A6F1B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5DEAA-D727-4E51-8226-37D5A5CB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9F3D1-BD44-456E-A461-FD37FD74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30BE-8C36-4462-96D0-EAA6CF2C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2EA3-4B55-4D90-ABD8-BA4CFC56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3924-C1E3-4814-8AB8-3DAE75CE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4335-D0F2-4E69-BF41-DB947DD59C2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7800-2E5B-4185-8D20-84587F570F0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8720-ECD1-438D-B1E5-6B2E767D1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243000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Montesquieu e as suas contribuições para o pensamento político moderno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30492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366840"/>
            <a:ext cx="853272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mic Sans MS"/>
              </a:rPr>
              <a:t>Charles-Louis de Secondat, Barão de Montesquieu (1689-175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pt-BR" sz="1800" spc="-1" strike="noStrike">
                <a:solidFill>
                  <a:srgbClr val="ff3300"/>
                </a:solidFill>
                <a:latin typeface="Comic Sans MS"/>
              </a:rPr>
              <a:t>Filósofo político francês, formado em Direi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Aristocr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Humanista (Iluminismo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mic Sans MS"/>
              </a:rPr>
              <a:t>Crítico severo da monarquia absolutista decadente e do cle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mic Sans MS"/>
              </a:rPr>
              <a:t>Num contexto liberal, a política de Montesquieu </a:t>
            </a:r>
            <a:r>
              <a:rPr b="1" lang="pt-PT" sz="1800" spc="-1" strike="noStrike">
                <a:solidFill>
                  <a:srgbClr val="ff3300"/>
                </a:solidFill>
                <a:latin typeface="Comic Sans MS"/>
              </a:rPr>
              <a:t>exposta no Espírito das Leis (1748), surge como essencialmente racionalist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3300"/>
                </a:solidFill>
                <a:latin typeface="Comic Sans MS"/>
              </a:rPr>
              <a:t>Ela se caracteriza pela busca de um justo equilíbrio entre a autoridade do poder e a liberdade do cidadã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3300"/>
                </a:solidFill>
                <a:latin typeface="Comic Sans MS"/>
              </a:rPr>
              <a:t>Para que ninguém possa abusar da autoridade, "é preciso que, pela disposição das coisas, o poder detenha o poder". Daí a separação entre poder legislativo, poder executivo e poder judiciário.</a:t>
            </a:r>
            <a:r>
              <a:rPr b="1" lang="pt-BR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mic Sans MS"/>
              </a:rPr>
              <a:t>O poder deve limitar o poder, para efetivar a LIBERDAD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omic Sans MS"/>
              </a:rPr>
              <a:t>Essa é a condição para o respeito às leis e para a segurança dos cidadãos: nenhum poder pode ser ilimitado (SISTEMA DE FREIOS E CONTRA-PESO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3300"/>
                </a:solidFill>
                <a:latin typeface="Comic Sans MS"/>
              </a:rPr>
              <a:t>Montesquieu possui, sobretudo, uma concepção racionalista das leis que não resultam dos caprichos arbitrários do soberano, mas são "relações necessárias que derivam da natureza das coisas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34920" y="476280"/>
            <a:ext cx="914400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ontesquieu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monta um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IPOLOGIA DE GOVERN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 apoiado em uma análise das causas – uma análise de causas socia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ssim os dividia e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epúblic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onarqu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spotism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 sempre haveria u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entiment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(um sentimento humano, já que o governo é feito por homens, sendo o Estado um ser juridicamente construído) correspondente ao tipo de governo; no caso d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epública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seria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IRTUD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; n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onarquia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ONRA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e n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spotismo,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ED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sses sentimentos são humanos e se expressam socialmen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República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é a associação de todos para o bem comum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irtud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Monarquia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usca o sentimento de honra para justificar seu poder (mas é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onra privada, a honra do governante para fazer bem aos governado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e não a pública), organizando um governo ju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-240120"/>
            <a:ext cx="86644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á o Despotismo tem o medo como base, que diz respeito à impossibilidade dos homens determinarem a própria vid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irtude tem que estar consignada na lei (que é igual para todo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nra é privada, exercendo a Monarquia um poder que a todos alcança, mas devendo respeitar a lei, que é igual para todos; ou seja, o rei governa, mas está limitado pela lei e, invariavelmente, essa lei se expressa na lei maior, em uma Constituiçã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governo despótico não existe lei – a lei é a vontade do déspota – É ARBITRÁRIA. A única coisa que limita o déspota é a religião, o medo da morte e do fim provável no infern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to República quanto Monarquia utilizam-se da lei para governar. O Despotismo se utiliza do arbítr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arquia - soberania nas mãos de uma só pessoa (o monarca) segundo leis positivas e o seu princípio é a honra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potismo - soberania nas mãos de uma só pessoa (o déspota) segundo a vontade deste e o seu princípio é o medo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ública - a soberania está nas mãos de muitos (de todos = democracia, ou de alguns = aristocracia) e o seu princípio motor é a virtude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4428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ara Montesquieu, cada forma de governo é adequada a um determinado volume de território e determinada quantidade populac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República não poderia ser realizada em território muito extenso e deveria ser composta de poucas pessoas, havendo bastante proximida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Monarquia pressupunha território médio (sendo que o governo seria dividido com a nobreza, através da lealdade, pois a nobreza estaria espalhada pelo território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Despotismo seria característico de grandes margens territoriais, não havendo proximidade social entre os ser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Estado necessariamente seria uma construção com base na extensão territorial e na quantidade populacional na visão de Montesqui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a visão de Montesquieu, somente na Monarquia haveria TRIPARTIÇÃO DOS PODERES, pois sua Monarquia era a Constitucion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magistratura seria exercida por um poder impessoal; o rei governaria, mas calcado em uma constituiç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s leis são prévias, claras e objetivas. Quem cria as leis são os representantes do povo, regidos por um rei justo. Não é o próprio rei quem cria as leis que irão reger a sociedade e o Estad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r fim, Montesquieu cria uma teoria fundada na LIBERDAD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idéia de liberdade e justiça são eminentemente humanas, não divinas. A Bíblia foi escrita pelos homens, não caiu do céu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valor da justiça estará sempre associado à liberdade para MONTESQUIE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ssim, observa-se que o Estado moderno é calcado sobre valores (justiça, liberdade, igualdade, fraternidade, etc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7083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35080" y="755640"/>
            <a:ext cx="865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são política e idéias princip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a contra o absolutismo (forma de governo que concentrava todo o poder do país nas mãos do rei). Por isso, defendia a divisão do poder em trê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er Executivo (órgão responsável pela administração do território e concentrado nas mãos do monarca ou regent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er Legislativo (órgão responsável pela elaboração das leis e representado pelas câmaras de parlamentares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er Judiciário(órgão responsável pela fiscalização do cumprimento das leis e exercido por juízes e magistrado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z várias críticas ao clero católico, principalmente, sobre seu poder temporal e interferência polític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endia aspectos democráticos de governo e o respeito das lei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2631960" y="1773360"/>
            <a:ext cx="417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ndrew Mores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33560" y="2852640"/>
            <a:ext cx="3476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iscila Gibi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76560" y="4417920"/>
            <a:ext cx="299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Rafael Marciano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7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3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7:31:23Z</dcterms:created>
  <dc:creator>fabinho</dc:creator>
  <dc:description/>
  <dc:language>en-US</dc:language>
  <cp:lastModifiedBy>fabinho</cp:lastModifiedBy>
  <dcterms:modified xsi:type="dcterms:W3CDTF">2009-08-31T19:03:39Z</dcterms:modified>
  <cp:revision>2</cp:revision>
  <dc:subject/>
  <dc:title>Montesquieu e as suas contribuições para o pensamento político moderno</dc:title>
</cp:coreProperties>
</file>